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734-2F33-4B39-BD1F-B468121B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687-AE6E-4353-8B48-4B7819C2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E5A-3C4A-4D0C-B119-0B0517A5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416-98B9-4A8C-9177-43CDEE90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9A2A-BA97-4180-A44A-8B13AA54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DD57-7833-4A97-AA5E-E8F738BB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052B-FB89-4FA2-BEE7-6D1F7ABE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856B-6E56-4DF9-950B-DC447E19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9AC1-1174-4F22-85CE-AC31CC6A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0AA9-7714-4E20-88A0-6282E96C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2BEB-06E3-4EE5-8CB9-9A350F0D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FD9-9DDE-4B8C-8A02-B4F0222A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D5F3-DDBE-43B3-B80F-FB714DAF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C853-80C5-4D26-8AD2-B53219C0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B22C-19C3-4E99-9081-AE7E4BD2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2F9C-9BD0-49ED-863A-1FB1CC51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30C1-B0D4-4C74-AA93-D4D968F5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6B170-8EBE-4353-A2E8-3C9A8174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79F3-EB79-47CD-BC15-EAAE4B7C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B0E1-4ED5-45EA-B811-E20DC480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0EE4-0E22-442A-9959-1D477EB3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D4B5A-A484-476F-8D59-E7C237C1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D9D-2B67-43DB-BFA1-FC5FF325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9289F-C623-4D1D-80E9-2FCE9DC2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3A49D-E231-4982-A70B-D68BEED3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FABB-7425-4EF5-9338-964A65A3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507C-2CF9-42A7-B369-ED47B796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61C7-206C-4FA9-A8C5-E3CAC8B9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2EBD-5E64-4D17-833E-196953BF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4FA9-4DCF-49C5-8EFB-48CF13F2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1921E-15C2-4D06-B564-14628053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9179-68C0-4613-98D7-176D8FAD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753B2-764D-445F-A821-2692473B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C2B-2FE5-4E62-A842-925A6FFC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A4DBA-686E-4C58-B0F0-8C400591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BDEB5-1B64-4CB6-8AA7-6FDEFF2B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0C5C-751E-4661-87CF-EF254E4D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E9FB9-33B7-4D8D-BEFC-1DAF889C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A6676-5BA8-468B-9B2A-EC522752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9BBA-0F39-46A3-811C-4629CF73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E4E77-6B80-4360-A422-3F08AF1B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BCCE2-9AA3-4668-A927-54B1545B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F409B-8EED-42BC-9CDA-7BFE2055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E79D0-3A6F-4CCE-96E8-413547F7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85D-DFFC-4E2C-BD36-87D79F96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20D7-870F-415D-B140-6C51F49A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AF300-C71E-486C-9428-183EF22F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5F563-F7C2-44A0-97FF-677160F9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8882D-291B-4BDB-B960-355C04D5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E8842-88CB-4149-92DD-032D5DB4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1BE22-52D5-415B-8771-C4EAD056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28014-DFEE-4985-A1E4-07D5D196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81DF1-AB02-4BE8-AF5F-DEE8822D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E5363-657A-46A5-A7A4-A329642F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A96F7-5083-4137-862C-C70E5813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FD3-BD14-4BC4-90DE-5A22ECCC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C1EAB-02AD-4758-BDC8-F81FC9E8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AA7C2-E2F7-490E-87C7-AF6126B1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2996D-9501-48CC-B537-21F7813F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BCE37-AEDE-43C7-842D-B8A061A6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04DDC-9C46-4E2D-BA32-0466AD40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DF9AC-329D-4B51-AB66-47EC0ABB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DA7FE-2F8A-4A05-9330-DEE778E8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447AB-86E7-471B-8092-54FFCE27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FA067-7916-4706-A865-E2509894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46BE0-ED14-4AEF-B767-732D869E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A8D-07BC-457A-B501-99BDEA93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DE6C3-C126-4E1A-8AF0-A93840D3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ACE59-148C-46BE-B7AD-0864B367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42E5F-C504-4468-9B1D-6E1B13C4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248-3CC0-440B-A881-54B3024F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39A-ACAA-40A7-BC09-6833CC9F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6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D7FF-1F6D-415F-837D-F362687F60C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6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93FD-9E68-4DB4-87A5-8E95A981F36A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6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67C0-0386-4A08-88D5-2D72CAA946E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6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4930-56E0-4A1D-943F-9AB729D9857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6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57AD-7DA6-42E5-BFAA-05D74287F83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6d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7067-0A9F-4DC0-8674-6A5DD7DD5E68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://truthnews.us/images/nafta.jpg"/>
          <p:cNvPicPr/>
          <p:nvPr/>
        </p:nvPicPr>
        <p:blipFill>
          <a:blip r:embed="rId1"/>
          <a:stretch/>
        </p:blipFill>
        <p:spPr>
          <a:xfrm>
            <a:off x="2895480" y="1752480"/>
            <a:ext cx="6089760" cy="44197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5"/>
          <p:cNvSpPr/>
          <p:nvPr/>
        </p:nvSpPr>
        <p:spPr>
          <a:xfrm>
            <a:off x="0" y="1676520"/>
            <a:ext cx="2895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. 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AFTA Members Prepare for Picnic!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. 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AFTA Members Graciously Share Businesses!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. 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AFTA Members Cover Up Conspiracy!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. 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AFTA Members fight For Business!</a:t>
            </a:r>
            <a:r>
              <a:rPr b="0" lang="ja-JP" sz="1800" spc="-1" strike="noStrike">
                <a:solidFill>
                  <a:srgbClr val="ffffff"/>
                </a:solidFill>
                <a:latin typeface="Century Gothic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Rectangl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22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3" descr=""/>
          <p:cNvPicPr/>
          <p:nvPr/>
        </p:nvPicPr>
        <p:blipFill>
          <a:blip r:embed="rId1"/>
          <a:stretch/>
        </p:blipFill>
        <p:spPr>
          <a:xfrm>
            <a:off x="-19080" y="30240"/>
            <a:ext cx="9150480" cy="712800"/>
          </a:xfrm>
          <a:prstGeom prst="rect">
            <a:avLst/>
          </a:prstGeom>
          <a:ln w="0">
            <a:noFill/>
          </a:ln>
        </p:spPr>
      </p:pic>
      <p:sp>
        <p:nvSpPr>
          <p:cNvPr id="273" name="Content Placeholder 2"/>
          <p:cNvSpPr/>
          <p:nvPr/>
        </p:nvSpPr>
        <p:spPr>
          <a:xfrm>
            <a:off x="-3240" y="762120"/>
            <a:ext cx="9144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Analyze the picture.  Which title did you choose?  Why do you think this title is a perfect title for the picture? Explain and use details from the picture to help you. 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19:19Z</dcterms:created>
  <dc:creator>e199300659</dc:creator>
  <dc:description/>
  <dc:language>en-US</dc:language>
  <cp:lastModifiedBy>M.  Echevarria</cp:lastModifiedBy>
  <cp:lastPrinted>2013-10-24T23:25:33Z</cp:lastPrinted>
  <dcterms:modified xsi:type="dcterms:W3CDTF">2014-01-05T20:51:37Z</dcterms:modified>
  <cp:revision>46</cp:revision>
  <dc:subject/>
  <dc:title>Slide 1</dc:title>
</cp:coreProperties>
</file>